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89700"/>
        <c:axId val="91627886"/>
      </c:barChart>
      <c:catAx>
        <c:axId val="65789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27886"/>
        <c:crosses val="autoZero"/>
        <c:auto val="1"/>
        <c:lblAlgn val="ctr"/>
        <c:lblOffset val="100"/>
        <c:noMultiLvlLbl val="0"/>
      </c:catAx>
      <c:valAx>
        <c:axId val="91627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89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94F-0232-4B88-A486-0AAD36B3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6AA-A8DA-48C8-A56C-B1B68DB3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C3C-BC04-4D86-8CBF-B60504BD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03A1-DF8E-454A-B947-5DA6A156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765-7515-41F1-AD7B-A427B660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24B-CD83-4187-9488-9AE89F38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6C9-2FB9-4E39-A064-8858A067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FA5-6CCB-42BC-A91D-74984C17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084-B8B1-4DED-B538-E49FFBED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E71-A07E-43C1-90A5-AFAEAFB4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D00-CD97-4F7C-B5E9-30DC77D5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1D4-4F4D-42D6-82DC-2A598BFB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EA4CE-5792-4EB0-9B90-61686799E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