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277684"/>
        <c:axId val="14236167"/>
      </c:barChart>
      <c:catAx>
        <c:axId val="73277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36167"/>
        <c:crosses val="autoZero"/>
        <c:auto val="1"/>
        <c:lblAlgn val="ctr"/>
        <c:lblOffset val="100"/>
        <c:noMultiLvlLbl val="0"/>
      </c:catAx>
      <c:valAx>
        <c:axId val="14236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77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CF2-A6B0-45AD-9641-2CCAE5B4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CD7-3631-4D45-ADDC-577F63BA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209-7A6F-4DF5-9403-DCBB6E49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62D-3994-4B6A-A3F8-08B29544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A3F-7A2F-4D6F-A40B-8A06F56E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82D-919D-45B5-BD43-D4099671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599-A6FB-4502-9245-846196C9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1EC0-031A-4BE3-AFCA-AC4C8565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723-F09B-4C41-B570-DF98EB35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FFA-6B39-485B-A474-1A6AD2EB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DD12-6966-4081-8FEB-0CD5F837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C37-7C86-4FE8-9B6D-57E677E8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B4CD4-BF4B-45B6-B0FD-906556B82F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