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37740"/>
        <c:axId val="47513866"/>
      </c:barChart>
      <c:catAx>
        <c:axId val="554377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13866"/>
        <c:crosses val="autoZero"/>
        <c:auto val="1"/>
        <c:lblAlgn val="ctr"/>
        <c:lblOffset val="100"/>
        <c:noMultiLvlLbl val="0"/>
      </c:catAx>
      <c:valAx>
        <c:axId val="47513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377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9A0-3C2B-46EE-A34C-1E155A8A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D53-C54E-4754-9FE8-5EDCF097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FBE-29F8-4A99-AC87-AB1F2255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E91-E84B-4C55-8959-9FA8A522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20A-8424-41CF-8FA7-CBFE91C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A3B-F014-4395-96D0-71D63F59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521-0823-4B76-90CF-A86E6CA5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A92-0673-4251-A27F-9BD53C84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BFAA-5457-4851-896D-9536FC2B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4414-456A-429C-9E2B-4DEC90B5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403-6EC1-4D26-A882-F64CC7B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2BB-E348-4D05-9DD1-DD7670D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A8F83-F671-4C17-B257-397FF08F8B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