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39204"/>
        <c:axId val="26912659"/>
      </c:barChart>
      <c:catAx>
        <c:axId val="678392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12659"/>
        <c:crosses val="autoZero"/>
        <c:auto val="1"/>
        <c:lblAlgn val="ctr"/>
        <c:lblOffset val="100"/>
        <c:noMultiLvlLbl val="0"/>
      </c:catAx>
      <c:valAx>
        <c:axId val="269126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392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284-1A4E-48FD-964F-EC8C767A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93F-CFBC-4576-A6D9-6EC88B32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BDF2-4F1B-4B6A-849C-91118502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B31C-C6F6-4431-9D10-CA808BFB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EA1-1DCE-4FD9-BC13-6DE0CF0E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DC1B-01D1-441F-B4AA-D5A4CE80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635-55EA-45C1-B2C9-14DBD923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63BF-2BEE-468F-AFEA-FE777EF1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A5B-0732-4094-96AB-89B6C64B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CD94-1ADE-4263-95EE-EAF0196E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25C-C848-4C57-A603-10F4F1AD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F77-52CA-4051-8780-80026110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AA792-9160-46BC-A803-7787B6A830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